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979-C815-49F9-888F-AE1E54B3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CA7-C9A3-4720-B1DE-E87091CD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CDA-310A-4E7A-B538-6380FD8B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A82-ACC1-469F-A6A2-E8AB842F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DCD-087F-4E0B-9ABC-60307801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258-AEC9-43ED-A23C-69DE702B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F56-FECC-4ACE-AD89-27CEF93A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BD6-D70F-4172-973D-2157CF87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AB1-9871-4B33-8297-36F07DE6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383-2C66-400C-9F8A-3B868A61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FCF-5CA6-4648-A5DA-6D49A021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DE7-CD94-4FE5-A9EE-96EA99E3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B9D8-2356-43DF-8C59-F0DE91BFC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133720"/>
            <a:ext cx="69339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4676760" cy="135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2286000"/>
            <a:ext cx="838224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KidTYPEPaint"/>
              </a:rPr>
              <a:t>Dear San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KidTYPEPaint"/>
              </a:rPr>
              <a:t>I am 5 years old.  I have 3 brothers and 1 sister.  I like to play with dolls.  I drew a picture of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KidTYPEPaint"/>
              </a:rPr>
              <a:t>I would like another doll for CHristmas that look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KidTYPEPaint"/>
              </a:rPr>
              <a:t>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KidTYPEPaint"/>
              </a:rPr>
              <a:t>Lo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KidTYPEPaint"/>
              </a:rPr>
              <a:t>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KidTYPEPaint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676520" y="4876920"/>
            <a:ext cx="110484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5880" y="838080"/>
            <a:ext cx="128592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5:18:46Z</dcterms:created>
  <dc:creator>Patrick Mooney</dc:creator>
  <dc:description/>
  <dc:language>en-US</dc:language>
  <cp:lastModifiedBy>Patrick Mooney</cp:lastModifiedBy>
  <dcterms:modified xsi:type="dcterms:W3CDTF">2008-12-02T15:22:26Z</dcterms:modified>
  <cp:revision>3</cp:revision>
  <dc:subject/>
  <dc:title>Slide 1</dc:title>
</cp:coreProperties>
</file>